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CA81D7-7226-4793-A308-B21B02969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01: LOCATOR VS IDENTIFIER: anycast is one of many things reducing the usefulness of IP addresses as identifiers. Instead it’s a locator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81: source address of DNS response must come from the dest address of the request, unless the address is not legal on the nod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4/3513, 2526: will discuss in more detail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 RFCs through RFC36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deally, don’t announce pieces of larger al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filtering occurs on very short prefi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root server: 192.5.5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112: 192.175.48.6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ORG: 204.74.112.0/24, 204.74.113.0/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s have different methods for configuring additional loopback addresses/ali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compelling reasons for the use of any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unicast experience; anycast requires no changes to clients, and very minimal server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y exploiting existing IP / IP routing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-domain vs. inter-domain: we’ll address both, and both need to be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rely within routing domain == all anycast nodes are completely within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diagram, “C”, “E”, and “G” would have static routes to 10.5.0.1 via the unique IP address of th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 is withdrawn by upstream routers when they lose adjac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bra: www.zebr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gga (zebra descendant): www.quagga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ing routing infrastructure: that’s what anycast is: leveraging exist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nodes don’t need to be as capable as global nodes, nor as stable. If they need to be taken offline for a few days, that’s ok (because a global node will provide service). But global nodes must always be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stomers of AS65520, the no-export peer to a local node, will most likely use the local 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S65530 is a peer of 65520, so it would not receive the no-export route. Thus, AS655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use the global node instead of the local 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ervices don’t work correctly with anycast: for example ‘time’ / UDP from inetd on Red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o anycast address: makes it easier to relocat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LISA presentation for more insights on recursive resolve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 SLIDE: IDENTIFYING SPECIFIC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oot-server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SEOCNDARY AS112 UNLESS YOU TALK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s112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1 – SOA RR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6 – NS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.175.48.42 – NS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September 19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agreslabs.net/jmbrown/research/as112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 diagram; considering all links equal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fic from node 2.2 to nod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: high latency to root server.. More time to get DNS response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add more NS records: size of DNS responses is bounded, and want to fit servers + glue in one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.root-servers.org, as of 18 sept 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ning of “.ORG problems this evening”: http://www.merit.edu/mail.archives/nanog/2003-09/msg0074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from Rodney Joffe to NANOG list 9/17/20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merit.edu/mail.archives/nanog/2003-09/msg00748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NS servers: 204.74.112.1, 204.74.11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 AS: 1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route-views.oregon-ix.ne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.74.112.1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14: Verio  (Tran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01: Net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29: New Edge Network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16: KDDI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79: RCN Cor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39: Hurricane Elec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75: Microsoft/MSN -- No Whois information?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56: Telefo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13: Glob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81: TDS Tele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.74.113.1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956: Telefon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28: XO Communications (Trans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029: New Edge Net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16: KDDI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75: Microsoft/MS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39: Hurricane Elec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s *will* encounter anycast in ordinary network operations. Have to be careful about assumptions mad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-views servers useful in determining global picture.. Perhaps “dns views” servers also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deployments will make sure routing is withdrawn quickly when the service is un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reliability mechs: perhaps use multiple DNS servers in zone, have one IP NOT hosted at each 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ney doesn’t believe this is necessary or improves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intra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to re-ip given that clients refer to the IP explicitly; that’s the whol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ast group address: 233.0.9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1.2, 3.1, 5.3 all subscribe to multicast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 2.2 sending to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C34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uniper.net/techpubs/software/junos/junos60/swconfig60-multicast/html/pim-config4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nvenient RP: several thousand miles of extra path to get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anog.org/mtg-0306/sink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otaroo.net/iepg/march-2003/sink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bornetworks.com/downloads/Sinkhole_Tutorial_June03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 majority of the time, only one node gets the packet. (That’s really the whole po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 : 6to4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R : 6to4 Relay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C3056: Connection of IPv6 Domains in IPv4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elay routers announce a route to the v4 pre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o4 rout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inter-domain vs intra-domain difference here: inter-domain is prob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rit.edu/mail.archives/nanog/2003-04/msg0046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route complications: want to use host based router to control default route, but what if the host-based router goe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v6 Addressing Architecture: RFC3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ed IPv6 Anycast Addresses: RFC25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CPv6: RFC3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Address Selection: RFC3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etf.org/internet-drafts/draft-ietf-ipngwg-ipv6-anycast-analysis-02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nycast destinations: both use the same format as uni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stic packet delivery: None, both rely on routing tables; fragmentation is an issu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cast host addresses: only routers may have RFC3513 anycast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cast address: 10.5.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all zeros” address is reserved for identifying default routers on a subnet (RFC35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ed anycast address (RFC25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i-64 has universal/local bit set to ‘0’ to indicate non-global uniqueness in the interface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ch.net/resources/papers/ipv4-anycast/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smon.ripe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equential packets (labelled 1, 2, 3) follow different p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156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64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156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156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55480" y="144792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4764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156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55480" y="3796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560" y="3796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44792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640" y="3796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24480" y="6095880"/>
            <a:ext cx="2589480" cy="385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3040" y="61768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D4A-32F2-4D3C-BCD0-6387A5E8C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54320" y="3505320"/>
            <a:ext cx="4635360" cy="12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5791320"/>
            <a:ext cx="3389040" cy="503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cm@cm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net.cmu.edu/pres/anycast" TargetMode="External"/><Relationship Id="rId2" Type="http://schemas.openxmlformats.org/officeDocument/2006/relationships/hyperlink" Target="mailto:kcm@cmu.edu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Deploying IP Anycas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evin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Carnegie Mellon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Garamond"/>
                <a:hlinkClick r:id="rId1"/>
              </a:rPr>
              <a:t>kcm@cm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ANOG 29 – Octob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from different nodes may follow separate pa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4120" y="2514600"/>
          <a:ext cx="765180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2514600"/>
                    <a:ext cx="76518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ver receiving a packet is determined by unicast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packets from a client to an anycast address may be delivered to different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used for single request/response type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, servers, and routers require no special software/firm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not negatively interfere with existing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st leveraging existing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Document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10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ept discussed in RFC1546 (11/9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practices have evolved from operati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DR eliminated a hurdle from 154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is briefly documented in RFC2101 (2/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DNS noted in RFC2181 (7/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y source address must match request de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Documented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 anycast – different, will discus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(RFC1884, now RFC351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anycast addresses (RFC25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v4 prefix for 6to4 routers (RFC306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address selection (RFC348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HCP (RFC331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authoritative name service (RFC325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for multicast RP (RFC344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C Technote (ISC-TN-200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‘anycast’ used in 51 RFCs to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ing and using anycaste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ddress Sele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819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practice is to assign anycast addresses from unicast IP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e small subnet(s) for anycast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best practices of inter-domain routing announc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24 is a popular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y not be attached to any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ost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s need to be configured to accept traffic to anycas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nt to maintain a unique management address on each h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ically, anycast addresses are configured as additional loopba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ingress filters are updated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447920"/>
            <a:ext cx="8001000" cy="1904400"/>
            <a:chOff x="609480" y="1447920"/>
            <a:chExt cx="8001000" cy="1904400"/>
          </a:xfrm>
        </p:grpSpPr>
        <p:sp>
          <p:nvSpPr>
            <p:cNvPr id="136" name=""/>
            <p:cNvSpPr/>
            <p:nvPr/>
          </p:nvSpPr>
          <p:spPr>
            <a:xfrm>
              <a:off x="609480" y="1828440"/>
              <a:ext cx="8001000" cy="1523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:1 10.5.0.1 netmask 255.255.255.255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:1      Link encap:Local Loopback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addr:10.5.0.1  Mask:255.255.255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P LOOPBACK RUNNING  MTU:16436  Metric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1447920"/>
              <a:ext cx="8001000" cy="380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480" y="3733920"/>
            <a:ext cx="8001000" cy="1904400"/>
            <a:chOff x="609480" y="3733920"/>
            <a:chExt cx="8001000" cy="1904400"/>
          </a:xfrm>
        </p:grpSpPr>
        <p:sp>
          <p:nvSpPr>
            <p:cNvPr id="139" name=""/>
            <p:cNvSpPr/>
            <p:nvPr/>
          </p:nvSpPr>
          <p:spPr>
            <a:xfrm>
              <a:off x="609480" y="4114440"/>
              <a:ext cx="8001000" cy="1523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 alias 10.5.0.1 netmask 255.255.255.2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0: flags=8049&lt;UP,LOOPBACK,RUNNING,MULTICAST&gt; mtu 33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27.0.0.1 netmask 0xff000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0.5.0.1 netmask 0xfffffff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733920"/>
              <a:ext cx="8001000" cy="3805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OpenB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9480" y="1447920"/>
            <a:ext cx="8001000" cy="1981080"/>
            <a:chOff x="609480" y="1447920"/>
            <a:chExt cx="8001000" cy="1981080"/>
          </a:xfrm>
        </p:grpSpPr>
        <p:sp>
          <p:nvSpPr>
            <p:cNvPr id="143" name=""/>
            <p:cNvSpPr/>
            <p:nvPr/>
          </p:nvSpPr>
          <p:spPr>
            <a:xfrm>
              <a:off x="609480" y="1828800"/>
              <a:ext cx="8001000" cy="1600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 addif 10.5.0.1/32 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reated new logical interface lo0: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ifconfig lo0: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0:1: flags=1000849&lt;UP,LOOPBACK,RUNNING,MULTICAST,IPv4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et 10.5.0.1 netmask fffffff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1447920"/>
              <a:ext cx="8001000" cy="3808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ol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verview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load balanc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ity / latency impro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esponse to 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experience with unicast rou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net.cmu.edu/pres/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etwork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ly configuring the network may be the trickiest aspect of 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-domain vs. inter-domain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ra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anycasted service is entirely within your routing domain, only intra-domain consideration is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nycast nodes are within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multiple “intra-domain”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configure routing to deliver anycast traffic to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: configure static routes on first-hop routers (host rou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 routes are propagated through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2895480"/>
          <a:ext cx="678204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78204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tat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to config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n’t respond quickly to server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the ability to relocate servers without service outage, th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a host-based routing daemon on anycast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bra/Quag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itself is route origin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host is down, route is withdra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rages routing infra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announces route to IGP clou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54000" y="2438280"/>
          <a:ext cx="71992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438280"/>
                    <a:ext cx="71992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ynamic IGP Rout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obviously specific to I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ed route redistribution, if anycast addresses are host loopb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p doesn’t imply service is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a mechanism for withdrawing routes automatically when service is unu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raditional BGP operating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ounce from a consistent orig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tise the service/anycast su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route f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r-independent IP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-domain routing must b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n be iBGP peered; ‘network’ style announcement on the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IGP with re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draw routes when service is unavailable at a particular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ployments distinguish “global” nodes from “local”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odes are announced without limitation; upstream provides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nodes add “no-export” community to limit the clients that will use th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ey (global/local imply different relationshi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stability, capabilities (due to service are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ter-Domain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Cloud"/>
          <p:cNvSpPr/>
          <p:nvPr/>
        </p:nvSpPr>
        <p:spPr>
          <a:xfrm>
            <a:off x="4419720" y="2895480"/>
            <a:ext cx="1523880" cy="8384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523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oba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5.0.1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5410080"/>
            <a:ext cx="1218960" cy="8384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5.0.1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1676520"/>
            <a:ext cx="152424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191120"/>
            <a:ext cx="2286000" cy="7617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Export 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447920"/>
            <a:ext cx="152388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4343400"/>
            <a:ext cx="1600200" cy="8380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590920"/>
            <a:ext cx="1905120" cy="838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 P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5410080"/>
            <a:ext cx="1524240" cy="8384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876920"/>
            <a:ext cx="1524240" cy="8380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655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1" idx="2"/>
            <a:endCxn id="170" idx="4"/>
          </p:cNvCxnSpPr>
          <p:nvPr/>
        </p:nvCxnSpPr>
        <p:spPr>
          <a:xfrm flipH="1" rot="16200000">
            <a:off x="4871160" y="2633760"/>
            <a:ext cx="581400" cy="38520"/>
          </a:xfrm>
          <a:prstGeom prst="curvedConnector5">
            <a:avLst>
              <a:gd name="adj1" fmla="val 45910"/>
              <a:gd name="adj2" fmla="val 50000"/>
              <a:gd name="adj3" fmla="val 4591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70" idx="5"/>
            <a:endCxn id="173" idx="4"/>
          </p:cNvCxnSpPr>
          <p:nvPr/>
        </p:nvCxnSpPr>
        <p:spPr>
          <a:xfrm flipV="1">
            <a:off x="5941800" y="2094840"/>
            <a:ext cx="1073520" cy="1220040"/>
          </a:xfrm>
          <a:prstGeom prst="curvedConnector5">
            <a:avLst>
              <a:gd name="adj1" fmla="val 49849"/>
              <a:gd name="adj2" fmla="val 50000"/>
              <a:gd name="adj3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6" idx="4"/>
            <a:endCxn id="172" idx="0"/>
          </p:cNvCxnSpPr>
          <p:nvPr/>
        </p:nvCxnSpPr>
        <p:spPr>
          <a:xfrm flipH="1" rot="16200000">
            <a:off x="4894920" y="5275440"/>
            <a:ext cx="230760" cy="38880"/>
          </a:xfrm>
          <a:prstGeom prst="curvedConnector5">
            <a:avLst>
              <a:gd name="adj1" fmla="val 50312"/>
              <a:gd name="adj2" fmla="val 49532"/>
              <a:gd name="adj3" fmla="val 5031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79" idx="4"/>
            <a:endCxn id="176" idx="5"/>
          </p:cNvCxnSpPr>
          <p:nvPr/>
        </p:nvCxnSpPr>
        <p:spPr>
          <a:xfrm rot="10800000">
            <a:off x="5788800" y="4761720"/>
            <a:ext cx="1226520" cy="534240"/>
          </a:xfrm>
          <a:prstGeom prst="curvedConnector5">
            <a:avLst>
              <a:gd name="adj1" fmla="val 50117"/>
              <a:gd name="adj2" fmla="val 49966"/>
              <a:gd name="adj3" fmla="val 50117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8" idx="4"/>
            <a:endCxn id="174" idx="4"/>
          </p:cNvCxnSpPr>
          <p:nvPr/>
        </p:nvCxnSpPr>
        <p:spPr>
          <a:xfrm flipH="1" flipV="1" rot="5400000">
            <a:off x="1956240" y="5051520"/>
            <a:ext cx="506880" cy="305640"/>
          </a:xfrm>
          <a:prstGeom prst="curvedConnector5">
            <a:avLst>
              <a:gd name="adj1" fmla="val 54584"/>
              <a:gd name="adj2" fmla="val 50000"/>
              <a:gd name="adj3" fmla="val 5458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0" idx="6"/>
            <a:endCxn id="177" idx="4"/>
          </p:cNvCxnSpPr>
          <p:nvPr/>
        </p:nvCxnSpPr>
        <p:spPr>
          <a:xfrm rot="10800000">
            <a:off x="3960000" y="3009240"/>
            <a:ext cx="464400" cy="305640"/>
          </a:xfrm>
          <a:prstGeom prst="curvedConnector5">
            <a:avLst>
              <a:gd name="adj1" fmla="val 50271"/>
              <a:gd name="adj2" fmla="val 50000"/>
              <a:gd name="adj3" fmla="val 50271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5" idx="4"/>
            <a:endCxn id="177" idx="5"/>
          </p:cNvCxnSpPr>
          <p:nvPr/>
        </p:nvCxnSpPr>
        <p:spPr>
          <a:xfrm>
            <a:off x="2207880" y="1866600"/>
            <a:ext cx="802440" cy="772200"/>
          </a:xfrm>
          <a:prstGeom prst="curved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6" idx="6"/>
            <a:endCxn id="174" idx="5"/>
          </p:cNvCxnSpPr>
          <p:nvPr/>
        </p:nvCxnSpPr>
        <p:spPr>
          <a:xfrm rot="10800000">
            <a:off x="3502800" y="4571280"/>
            <a:ext cx="693000" cy="191160"/>
          </a:xfrm>
          <a:prstGeom prst="curvedConnector5">
            <a:avLst>
              <a:gd name="adj1" fmla="val 50207"/>
              <a:gd name="adj2" fmla="val 50000"/>
              <a:gd name="adj3" fmla="val 50207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74" idx="6"/>
            <a:endCxn id="170" idx="7"/>
          </p:cNvCxnSpPr>
          <p:nvPr/>
        </p:nvCxnSpPr>
        <p:spPr>
          <a:xfrm flipH="1" flipV="1" rot="5400000">
            <a:off x="3520440" y="2572920"/>
            <a:ext cx="502560" cy="2819880"/>
          </a:xfrm>
          <a:prstGeom prst="curvedConnector5">
            <a:avLst>
              <a:gd name="adj1" fmla="val 54050"/>
              <a:gd name="adj2" fmla="val 50000"/>
              <a:gd name="adj3" fmla="val 54050"/>
            </a:avLst>
          </a:prstGeom>
          <a:ln w="19080">
            <a:solidFill>
              <a:srgbClr val="000000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rvice Configura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 depends o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 service to listen on anycast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require no special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ify that service respond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ycast address when que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nt to limit service to list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anycast I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: identical service by each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Address Us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told to use anycast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service configured by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itative DNS, Syslog, Kerb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round-robin DNS for additional redunda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800600"/>
            <a:ext cx="77724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; ANSWER S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s1.example.com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64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.5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Address Us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 DN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server addresses by DHCP, PPP, word of mou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 the poor behavior of OS stub resol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configured DNS Server is tried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ery 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multi-second delays for many qu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ect opportunity for any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onitorin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is more com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ld monitor the unique (non-anycast) IPs, but doesn’t verify the actu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the anycast (service) IP can’t be done centrall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monitoring needed for distributed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want to monitor ro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in Actio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itative D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Servers: F, I, K,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ORG Top Leve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 D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for Multicast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Sink Ho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to4 routers (RFC306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Many clients try queries and updates for/to RFC1918/link local reverse z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Reduce unnecessary root server load from these queries/upd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Delegate reverse zones to anycasted black-hole serv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s112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-hole servers use IP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2.175.48.0/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unced from 16 locations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origin AS1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BG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647720"/>
            <a:ext cx="7950240" cy="136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r bgp 11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bgp router-id 192.175.48.25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twork 192.175.48.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remote-as PEER_A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ebgp-multiho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neighbor PEER_IP next-hop-sel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360" y="126684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360" y="3552840"/>
            <a:ext cx="7950240" cy="242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licy-statement advertise-aggregat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first-ter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protocol aggreg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 accep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second-term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route-filter 192.175.48.0/24 lon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n rejec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ntinued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360" y="317196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803680"/>
            <a:ext cx="335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[http://www.chagreslabs.net/jmbrown/research/as112/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t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: Single host receives al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9880" y="22176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2176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nfiguring BG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495360" y="1704960"/>
            <a:ext cx="7950240" cy="1714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routing-options aggregate route 192.175.48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dit protocols bgp group 112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export advertise-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type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peer-as PEER_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set neighbor PEER_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360" y="1324080"/>
            <a:ext cx="7950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 Vendor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S112 Projec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905120"/>
            <a:ext cx="761976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one “10.in-addr.arpa” { type master; file “db.RFC-1918”;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zone “254.169.in-addr.arpa” { type master; file “db.RFC-1918”;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523880"/>
            <a:ext cx="761976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76720"/>
            <a:ext cx="7619760" cy="117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TTL 30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@ IN SOA prisoner.iana.org. hostmaster.root-servers.org. (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                     2002040800 30m 15m 1w 1w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 NS blackhole-1.iana.org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     NS blackhole-2.iana.org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895480"/>
            <a:ext cx="761976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e File: db.RFC-19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86440" y="4413240"/>
            <a:ext cx="335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[http://www.chagreslabs.net/jmbrown/research/as112/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ot Serv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ncentration of root servers outside the US (high latency, higher cost link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 attacks hurt the root servers and infrastructure in betw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’t just add more NS records to root z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Add root servers to underrepresented areas of the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inter-domain anycast to serve existing root server IP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ot Serv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” root server (ISC) anyca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oned node announced Nov.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have 12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origin AS355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hop AS for local nodes also assigned to the I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5181480"/>
            <a:ext cx="31240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3557 3557 35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4800600"/>
            <a:ext cx="312408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obal Node AS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5181480"/>
            <a:ext cx="34290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 23709 35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800600"/>
            <a:ext cx="3429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Node AS Path (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ORG Top Level Domai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nt NANOG discussion analyzing anycast use for 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gestion of an outage at on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nitors that test each of the anycast nodes reported no outage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 provided by 2 anycast server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204.74.112.1, 204.74.113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/24s; different transit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ven total second-hop 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ORG Top Level Domain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lights anycast les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ors will encounter 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locations, different experi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vailability and routing announcements are coup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reliability mechanisms built into service – they can help or hu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 respond poorly when caching nameserver is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NS is hard to re-IP (static confi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Always have caching DNS service on first client-configured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Use anycasted servers; configure anycast IPs on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esigna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8.2.1.0/2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intra-domain anycast use (from our IP spa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ching server IP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8.2.1.10, 128.2.1.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BIND9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d on 4 servers; 6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resses assigned by DHCP, PP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server runs host-based routing daemon (Quagga) to join OSPF clou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OSPF NSSA areas to h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the number of routes on the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s multiple interfaces on servers in separate NSSA areas but no forwarding through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676520"/>
            <a:ext cx="8001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en-on { 128.2.1.10; 128.2.1.11;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-source address 128.2.4.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29528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9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657600"/>
            <a:ext cx="80010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0.0.0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nssa default-information-originate no-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4.0 0.0.0.63 area 128.2.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0.0 0.0.255.255 area 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276720"/>
            <a:ext cx="8001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Not Mult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86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: Many hosts receive (all) traffic to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22176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2176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676520"/>
            <a:ext cx="8001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en-on { 128.2.1.10; 128.2.1.11;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uery-source address 128.2.4.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29528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D 9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657600"/>
            <a:ext cx="800100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r ospf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0.0.0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authentication message-dig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128.2.4.0 nssa default-information-originate no-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4.0 0.0.0.63 area 128.2.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128.2.0.0 0.0.255.255 area 0.0.0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276720"/>
            <a:ext cx="8001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81280" y="2905200"/>
            <a:ext cx="3771720" cy="1476360"/>
          </a:xfrm>
          <a:prstGeom prst="wedgeRoundRectCallout">
            <a:avLst>
              <a:gd name="adj1" fmla="val 36828"/>
              <a:gd name="adj2" fmla="val -76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e generic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sure servers aren’t sourcing non-response traffic from anycast addr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ching DNS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628560" y="1762200"/>
            <a:ext cx="8001000" cy="33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dit protocols osp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 4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s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ea-range 128.2.4.0/2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-ls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-metric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metri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ype-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summar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thentication-type md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interfa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8560" y="1380960"/>
            <a:ext cx="800100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 Router, Said Another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ost-Based Router Confi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752480"/>
            <a:ext cx="34290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eth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4.21/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lo: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1.10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lo: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address 128.2.1.11/3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371600"/>
            <a:ext cx="342900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gga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752480"/>
            <a:ext cx="4419360" cy="358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 eth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ospf authentication message-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 ospf message-digest-key 1 md5 [ke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uter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spf router-id 128.2.4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spf abr-type 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tible rfc15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128.2.4.0 authentication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128.2.4.0 n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work 128.2.4.21/26 area 128.2.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distribute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ribute-list 50 ou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-list 50 permit host 128.2.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-list 50 permit host 128.2.1.1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1371600"/>
            <a:ext cx="441936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pfd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M-SM specifies one active RP per multicast group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uting domain may be too large for this to be feasible (RP on the other co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failover if RP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directly possible for shared-tree 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Multiple RPs for same group within a routing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anycast addresses for RP (RFC344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ate more than one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gn anycast address as loopback on each R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e all other routers to use anycast address as RP for all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up MSDP mesh among all RPs (using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ddress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 address cannot be used in SA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676520"/>
            <a:ext cx="4953240" cy="3047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escription Router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address 10.2.4.249 255.255.255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sparse-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Loopback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escription Anycast RP Interfa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address 10.2.1.130 255.255.255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sparse-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peer 10.2.4.248 connect-sour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peer 10.2.4.250 connect-source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mesh-group CMU-MSDP 10.2.4.2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mesh-group CMU-MSDP 10.2.4.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cache-sa-st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msdp originator-id Loopback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1295280"/>
            <a:ext cx="4953240" cy="381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5257800"/>
            <a:ext cx="49532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rp-address 10.2.1.130 overr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p pim accept-rp 10.2.1.1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876920"/>
            <a:ext cx="49532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"/>
          <p:cNvSpPr/>
          <p:nvPr/>
        </p:nvSpPr>
        <p:spPr>
          <a:xfrm>
            <a:off x="800280" y="1704960"/>
            <a:ext cx="4105080" cy="4305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interfaces lo0 unit 0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amily inet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# set address 10.2.4.249/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# set address 10.2.1.130/3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pim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local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ddress 10.2.1.13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rface all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e spars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2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msd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roup CMU-MSD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local-address 10.2.4.249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e mesh-grou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eer 10.2.4.248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eer 10.2.4.25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0280" y="1324080"/>
            <a:ext cx="410508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38560" y="1704960"/>
            <a:ext cx="31910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edit protocols pim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rp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tatic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ddress 10.2.1.130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2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38560" y="1324080"/>
            <a:ext cx="319104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P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5105520"/>
            <a:ext cx="5331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76" idx="2"/>
            <a:endCxn id="274" idx="7"/>
          </p:cNvCxnSpPr>
          <p:nvPr/>
        </p:nvCxnSpPr>
        <p:spPr>
          <a:xfrm flipH="1">
            <a:off x="1598040" y="4191120"/>
            <a:ext cx="61164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3" idx="0"/>
            <a:endCxn id="276" idx="4"/>
          </p:cNvCxnSpPr>
          <p:nvPr/>
        </p:nvCxnSpPr>
        <p:spPr>
          <a:xfrm flipV="1">
            <a:off x="2400120" y="4495320"/>
            <a:ext cx="1148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2209680" y="3886200"/>
            <a:ext cx="60984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2286000"/>
            <a:ext cx="60948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12952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7"/>
            <a:endCxn id="280" idx="3"/>
          </p:cNvCxnSpPr>
          <p:nvPr/>
        </p:nvCxnSpPr>
        <p:spPr>
          <a:xfrm flipV="1">
            <a:off x="6311520" y="1750320"/>
            <a:ext cx="6246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8" idx="6"/>
            <a:endCxn id="279" idx="2"/>
          </p:cNvCxnSpPr>
          <p:nvPr/>
        </p:nvCxnSpPr>
        <p:spPr>
          <a:xfrm flipV="1">
            <a:off x="6400440" y="2476080"/>
            <a:ext cx="12200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6" idx="6"/>
            <a:endCxn id="278" idx="3"/>
          </p:cNvCxnSpPr>
          <p:nvPr/>
        </p:nvCxnSpPr>
        <p:spPr>
          <a:xfrm flipV="1">
            <a:off x="2819520" y="2806200"/>
            <a:ext cx="306144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"/>
          <p:cNvSpPr/>
          <p:nvPr/>
        </p:nvSpPr>
        <p:spPr>
          <a:xfrm>
            <a:off x="6324480" y="3124080"/>
            <a:ext cx="1752840" cy="1067040"/>
          </a:xfrm>
          <a:prstGeom prst="wedgeRoundRectCallout">
            <a:avLst>
              <a:gd name="adj1" fmla="val 30708"/>
              <a:gd name="adj2" fmla="val -81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GP, M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5320" y="14479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-Anycast 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2057400"/>
            <a:ext cx="2133360" cy="838080"/>
          </a:xfrm>
          <a:prstGeom prst="wedgeRoundRectCallout">
            <a:avLst>
              <a:gd name="adj1" fmla="val 80282"/>
              <a:gd name="adj2" fmla="val -1212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RP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2209680"/>
            <a:ext cx="609840" cy="609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6" idx="0"/>
            <a:endCxn id="287" idx="3"/>
          </p:cNvCxnSpPr>
          <p:nvPr/>
        </p:nvCxnSpPr>
        <p:spPr>
          <a:xfrm flipV="1">
            <a:off x="2514600" y="2730240"/>
            <a:ext cx="115632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78" idx="2"/>
            <a:endCxn id="287" idx="6"/>
          </p:cNvCxnSpPr>
          <p:nvPr/>
        </p:nvCxnSpPr>
        <p:spPr>
          <a:xfrm flipH="1" flipV="1">
            <a:off x="4190400" y="25146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 flipH="1">
            <a:off x="6391080" y="1809720"/>
            <a:ext cx="571320" cy="581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190760" y="2590560"/>
            <a:ext cx="1600200" cy="7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590560" y="2800440"/>
            <a:ext cx="1104840" cy="108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495160" y="4524480"/>
            <a:ext cx="95400" cy="571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19440" y="4010040"/>
            <a:ext cx="2133720" cy="1071720"/>
          </a:xfrm>
          <a:prstGeom prst="wedgeRoundRectCallout">
            <a:avLst>
              <a:gd name="adj1" fmla="val -65625"/>
              <a:gd name="adj2" fmla="val -11207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P might be inconvenient for shared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6" idx="1"/>
            <a:endCxn id="280" idx="6"/>
          </p:cNvCxnSpPr>
          <p:nvPr/>
        </p:nvCxnSpPr>
        <p:spPr>
          <a:xfrm flipH="1" flipV="1">
            <a:off x="7390800" y="1561320"/>
            <a:ext cx="238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552600" y="5457960"/>
            <a:ext cx="121896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9480" y="1552680"/>
            <a:ext cx="121932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7410600" y="1657080"/>
            <a:ext cx="180720" cy="152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7" idx="3"/>
            <a:endCxn id="273" idx="3"/>
          </p:cNvCxnSpPr>
          <p:nvPr/>
        </p:nvCxnSpPr>
        <p:spPr>
          <a:xfrm flipV="1">
            <a:off x="1771560" y="5560200"/>
            <a:ext cx="4406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 flipH="1">
            <a:off x="1800360" y="5619600"/>
            <a:ext cx="419040" cy="95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cast RP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5105520"/>
            <a:ext cx="5331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305" idx="2"/>
            <a:endCxn id="303" idx="7"/>
          </p:cNvCxnSpPr>
          <p:nvPr/>
        </p:nvCxnSpPr>
        <p:spPr>
          <a:xfrm flipH="1">
            <a:off x="1598040" y="4191120"/>
            <a:ext cx="61164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2" idx="0"/>
            <a:endCxn id="305" idx="4"/>
          </p:cNvCxnSpPr>
          <p:nvPr/>
        </p:nvCxnSpPr>
        <p:spPr>
          <a:xfrm flipV="1">
            <a:off x="2400120" y="4495320"/>
            <a:ext cx="1148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"/>
          <p:cNvSpPr/>
          <p:nvPr/>
        </p:nvSpPr>
        <p:spPr>
          <a:xfrm>
            <a:off x="2209680" y="3886200"/>
            <a:ext cx="60984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2286000"/>
            <a:ext cx="609480" cy="6094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9528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7" idx="7"/>
            <a:endCxn id="309" idx="3"/>
          </p:cNvCxnSpPr>
          <p:nvPr/>
        </p:nvCxnSpPr>
        <p:spPr>
          <a:xfrm flipV="1">
            <a:off x="6311520" y="1750320"/>
            <a:ext cx="624600" cy="6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7" idx="6"/>
            <a:endCxn id="308" idx="2"/>
          </p:cNvCxnSpPr>
          <p:nvPr/>
        </p:nvCxnSpPr>
        <p:spPr>
          <a:xfrm flipV="1">
            <a:off x="6400440" y="2476080"/>
            <a:ext cx="12200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6"/>
            <a:endCxn id="307" idx="3"/>
          </p:cNvCxnSpPr>
          <p:nvPr/>
        </p:nvCxnSpPr>
        <p:spPr>
          <a:xfrm flipV="1">
            <a:off x="2819520" y="2806200"/>
            <a:ext cx="306144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6324480" y="3124080"/>
            <a:ext cx="1752840" cy="1067040"/>
          </a:xfrm>
          <a:prstGeom prst="wedgeRoundRectCallout">
            <a:avLst>
              <a:gd name="adj1" fmla="val 30708"/>
              <a:gd name="adj2" fmla="val -81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GP, M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7040" y="14479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ycast 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73560" y="1366920"/>
            <a:ext cx="2133720" cy="838080"/>
          </a:xfrm>
          <a:prstGeom prst="wedgeRoundRectCallout">
            <a:avLst>
              <a:gd name="adj1" fmla="val -51486"/>
              <a:gd name="adj2" fmla="val 73675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RPs for sam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2209680"/>
            <a:ext cx="609840" cy="609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305" idx="0"/>
            <a:endCxn id="316" idx="3"/>
          </p:cNvCxnSpPr>
          <p:nvPr/>
        </p:nvCxnSpPr>
        <p:spPr>
          <a:xfrm flipV="1">
            <a:off x="2514600" y="2730240"/>
            <a:ext cx="1156320" cy="1156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7" idx="2"/>
            <a:endCxn id="316" idx="6"/>
          </p:cNvCxnSpPr>
          <p:nvPr/>
        </p:nvCxnSpPr>
        <p:spPr>
          <a:xfrm flipH="1" flipV="1">
            <a:off x="4190400" y="25146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6391080" y="1809720"/>
            <a:ext cx="571320" cy="581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869920" y="2870280"/>
            <a:ext cx="3019320" cy="137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495160" y="4524480"/>
            <a:ext cx="95400" cy="571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83000" y="4262400"/>
            <a:ext cx="2133720" cy="1071720"/>
          </a:xfrm>
          <a:prstGeom prst="wedgeRoundRectCallout">
            <a:avLst>
              <a:gd name="adj1" fmla="val -45907"/>
              <a:gd name="adj2" fmla="val -7488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optimize RP placement for lo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60400" y="2819520"/>
            <a:ext cx="1027080" cy="10238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860560" y="2778120"/>
            <a:ext cx="2944800" cy="13352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249440" y="2582640"/>
            <a:ext cx="1493640" cy="7452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4040" y="2368440"/>
            <a:ext cx="1752480" cy="1067040"/>
          </a:xfrm>
          <a:prstGeom prst="wedgeRoundRectCallout">
            <a:avLst>
              <a:gd name="adj1" fmla="val 53439"/>
              <a:gd name="adj2" fmla="val 8645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DP Mes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qu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328" idx="1"/>
          </p:cNvCxnSpPr>
          <p:nvPr/>
        </p:nvCxnSpPr>
        <p:spPr>
          <a:xfrm flipH="1" flipV="1">
            <a:off x="7390800" y="1561320"/>
            <a:ext cx="238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552600" y="5457960"/>
            <a:ext cx="121896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1552680"/>
            <a:ext cx="1219320" cy="3999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7410600" y="1657080"/>
            <a:ext cx="180720" cy="152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29" idx="3"/>
          </p:cNvCxnSpPr>
          <p:nvPr/>
        </p:nvCxnSpPr>
        <p:spPr>
          <a:xfrm flipV="1">
            <a:off x="1771560" y="5560200"/>
            <a:ext cx="4406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 flipH="1">
            <a:off x="1800360" y="5619600"/>
            <a:ext cx="419040" cy="95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Sinkhol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Homeless network traffic (e.g. turbo worms, backscatter, etc) can cause problems for core routers to sink; sinkholes help but also don’t want to send traffic across large network to s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Want to be able to forward traffic to multiple sinkhole points for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: Use anycast to enable distributed sinkholes throughout a larg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nodes configured to accept traffic on single IP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e n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ceives each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could be dropped like any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ably only one node receives packet, but no absolute guaran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ode that receives a specific packet is determined by rou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 Sinkhol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an be directed to sinkhole v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eces of unused IP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GP next-hop triggering, ex: for DoS victi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sinkholes can be deployed using anycast as sinkhole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good slides by Greene, McPherson (see resources page for lin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Connecting islands of v6 across existing v4 infrastructure involves 6to4 relay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: Provide an easy way for end sites to locate relays into the native v6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Use a well-known IPv4 anycast prefix for 6to4 relay rou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Cloud"/>
          <p:cNvSpPr/>
          <p:nvPr/>
        </p:nvSpPr>
        <p:spPr>
          <a:xfrm>
            <a:off x="625320" y="122076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87440" y="2287440"/>
            <a:ext cx="53352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35160" y="1601640"/>
            <a:ext cx="533160" cy="5335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41" idx="0"/>
            <a:endCxn id="342" idx="5"/>
          </p:cNvCxnSpPr>
          <p:nvPr/>
        </p:nvCxnSpPr>
        <p:spPr>
          <a:xfrm flipH="1" flipV="1" rot="5400000">
            <a:off x="1557000" y="2153520"/>
            <a:ext cx="230760" cy="37080"/>
          </a:xfrm>
          <a:prstGeom prst="curvedConnector5">
            <a:avLst>
              <a:gd name="adj1" fmla="val 32968"/>
              <a:gd name="adj2" fmla="val 50000"/>
              <a:gd name="adj3" fmla="val 32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1" idx="6"/>
            <a:endCxn id="345" idx="2"/>
          </p:cNvCxnSpPr>
          <p:nvPr/>
        </p:nvCxnSpPr>
        <p:spPr>
          <a:xfrm flipV="1">
            <a:off x="1920960" y="2460240"/>
            <a:ext cx="1661040" cy="94320"/>
          </a:xfrm>
          <a:prstGeom prst="curvedConnector5">
            <a:avLst>
              <a:gd name="adj1" fmla="val 49989"/>
              <a:gd name="adj2" fmla="val 49808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6" name=""/>
          <p:cNvSpPr/>
          <p:nvPr/>
        </p:nvSpPr>
        <p:spPr>
          <a:xfrm>
            <a:off x="4957920" y="14032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172728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4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97640" y="2176560"/>
            <a:ext cx="60948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0480" y="2392200"/>
            <a:ext cx="60948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45" idx="6"/>
            <a:endCxn id="350" idx="2"/>
          </p:cNvCxnSpPr>
          <p:nvPr/>
        </p:nvCxnSpPr>
        <p:spPr>
          <a:xfrm>
            <a:off x="4267080" y="2460240"/>
            <a:ext cx="1331280" cy="20880"/>
          </a:xfrm>
          <a:prstGeom prst="curvedConnector5">
            <a:avLst>
              <a:gd name="adj1" fmla="val 49986"/>
              <a:gd name="adj2" fmla="val 4912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50" idx="6"/>
            <a:endCxn id="351" idx="2"/>
          </p:cNvCxnSpPr>
          <p:nvPr/>
        </p:nvCxnSpPr>
        <p:spPr>
          <a:xfrm>
            <a:off x="6207120" y="2481120"/>
            <a:ext cx="334080" cy="216720"/>
          </a:xfrm>
          <a:prstGeom prst="curvedConnector5">
            <a:avLst>
              <a:gd name="adj1" fmla="val 49946"/>
              <a:gd name="adj2" fmla="val 49916"/>
              <a:gd name="adj3" fmla="val 499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6" name=""/>
          <p:cNvCxnSpPr>
            <a:stCxn id="351" idx="4"/>
            <a:endCxn id="352" idx="6"/>
          </p:cNvCxnSpPr>
          <p:nvPr/>
        </p:nvCxnSpPr>
        <p:spPr>
          <a:xfrm rot="5400000">
            <a:off x="5284800" y="3583440"/>
            <a:ext cx="214236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50" idx="4"/>
            <a:endCxn id="353" idx="0"/>
          </p:cNvCxnSpPr>
          <p:nvPr/>
        </p:nvCxnSpPr>
        <p:spPr>
          <a:xfrm rot="5400000">
            <a:off x="4476960" y="2689920"/>
            <a:ext cx="1329480" cy="1521360"/>
          </a:xfrm>
          <a:prstGeom prst="curvedConnector5">
            <a:avLst>
              <a:gd name="adj1" fmla="val 49918"/>
              <a:gd name="adj2" fmla="val 49988"/>
              <a:gd name="adj3" fmla="val 499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6799320" y="4826160"/>
            <a:ext cx="1770120" cy="1157040"/>
          </a:xfrm>
          <a:prstGeom prst="wedgeRoundRectCallout">
            <a:avLst>
              <a:gd name="adj1" fmla="val -127217"/>
              <a:gd name="adj2" fmla="val 679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2::/16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06640" y="4373640"/>
            <a:ext cx="2557440" cy="1157040"/>
          </a:xfrm>
          <a:prstGeom prst="wedgeRoundRectCallout">
            <a:avLst>
              <a:gd name="adj1" fmla="val 77620"/>
              <a:gd name="adj2" fmla="val -8031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 anycast v4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2.88.99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68280" y="3125880"/>
            <a:ext cx="2013120" cy="923760"/>
          </a:xfrm>
          <a:prstGeom prst="wedgeRoundRectCallout">
            <a:avLst>
              <a:gd name="adj1" fmla="val 64351"/>
              <a:gd name="adj2" fmla="val -11323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::/0 in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68600" y="144936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211788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CP-Based Servic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wise to use anycast for long-term TCP services, due to rout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 shows that routes are generally stable, thou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ecially inter-domain, due to routing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 cost load balancing would cause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routers often do flow path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CP-Based Servic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4764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few knobs to direct traffic in response to server load,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743200"/>
            <a:ext cx="7467480" cy="2209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long as you don't make silly assumptions about 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ity based on "which anycasted server heard it",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give back incoherent answers in hopes that they will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how client-optimal, bgp-anycast isn't ev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versial at this point in ti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9000" y="45813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aul Vixie, 4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Other (Potential) U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P/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packet request-response UDP protocols are “eas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nyca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ing IPv4 anycast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usage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ced Top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homed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ulti-Homed Host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homing at the host physical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sed with anycast ad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case: single multi-homed host configured with anycas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appropriately a ‘service’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redundancy, no service s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sam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complications with defaul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v6 Anycast, per RFC3513, is different from “shared-unicast” addressing (what we’re calling anyca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513: Eliminate constraints on routing infrastructure, upper-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uple Anycast from any thought about TCP/UDP (and still make it 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Unicast” IPv6 would generally map from v4 experi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ino, Ettikan draft addresses the differences and lim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odes configured with anycast address (10.5.0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8880" y="2446200"/>
          <a:ext cx="762300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880" y="2446200"/>
                    <a:ext cx="7623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3514680" y="1857240"/>
            <a:ext cx="4581720" cy="1619280"/>
          </a:xfrm>
          <a:prstGeom prst="wedgeRoundRectCallout">
            <a:avLst>
              <a:gd name="adj1" fmla="val -35791"/>
              <a:gd name="adj2" fmla="val 5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stions about how hosts announce routes into domain. Shared-unicast solutions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513 vs Shared Uni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47640" y="1447920"/>
          <a:ext cx="7962840" cy="4406760"/>
        </p:xfrm>
        <a:graphic>
          <a:graphicData uri="http://schemas.openxmlformats.org/drawingml/2006/table">
            <a:tbl>
              <a:tblPr/>
              <a:tblGrid>
                <a:gridCol w="1790640"/>
                <a:gridCol w="3048120"/>
                <a:gridCol w="31240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su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FC3513 Any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red Unic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ying anycast des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me address format as unic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erminist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cket deliver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e – seq. packets may reach diff. h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host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; routers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ycast as source ad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allo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red for current operational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– instability of addressing and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3629160" y="2610000"/>
            <a:ext cx="4876560" cy="1619280"/>
          </a:xfrm>
          <a:prstGeom prst="wedgeRoundRectCallout">
            <a:avLst>
              <a:gd name="adj1" fmla="val -40365"/>
              <a:gd name="adj2" fmla="val 8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cast addresses don’t uniquely identify source node. Trying to define most generic solution at IP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Improvement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hosts to have 3513 Any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need to define mechanism(s) for announcing routes into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eterministic endpoint with 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routing header specifying non-anycast address as intermediate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 address as source addre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address is unique machin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 address option of Any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break semantic equality of source address/home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Protocol Issu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d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NS, etc. require matching source address as querie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etter security and drop the check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d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s identified by address/port pair of source/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means for changing address of connection/initiating new connec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General Issu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emphasis on route aggregation, questions arise about global inter-domain shared-uni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13 Anycast specifically: host routes must be carried within aggregation domain encompassing all interfaces of specific Anycast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Pv6 Anycast Addresse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rved addresses/ranges (35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2120" y="2133720"/>
            <a:ext cx="7391160" cy="1371600"/>
            <a:chOff x="762120" y="2133720"/>
            <a:chExt cx="7391160" cy="1371600"/>
          </a:xfrm>
        </p:grpSpPr>
        <p:sp>
          <p:nvSpPr>
            <p:cNvPr id="393" name=""/>
            <p:cNvSpPr/>
            <p:nvPr/>
          </p:nvSpPr>
          <p:spPr>
            <a:xfrm>
              <a:off x="762120" y="2514600"/>
              <a:ext cx="7391160" cy="99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2120" y="2133720"/>
              <a:ext cx="7391160" cy="3808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ubnet-Router Anycast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447920" y="2590920"/>
              <a:ext cx="5943600" cy="761760"/>
              <a:chOff x="1447920" y="2590920"/>
              <a:chExt cx="5943600" cy="76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447920" y="2895480"/>
                <a:ext cx="396252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net prefi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10440" y="2895480"/>
                <a:ext cx="1981080" cy="457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000000000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53520" y="2590920"/>
                <a:ext cx="77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 b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791680" y="2590920"/>
                <a:ext cx="123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28-n b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762120" y="4114800"/>
            <a:ext cx="739116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3733920"/>
            <a:ext cx="7391160" cy="380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rved Anycas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057400" y="4114800"/>
            <a:ext cx="5943600" cy="761760"/>
            <a:chOff x="2057400" y="4114800"/>
            <a:chExt cx="5943600" cy="761760"/>
          </a:xfrm>
        </p:grpSpPr>
        <p:sp>
          <p:nvSpPr>
            <p:cNvPr id="403" name=""/>
            <p:cNvSpPr/>
            <p:nvPr/>
          </p:nvSpPr>
          <p:spPr>
            <a:xfrm>
              <a:off x="2057400" y="4419360"/>
              <a:ext cx="259056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net pref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0800" y="4419360"/>
              <a:ext cx="1600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ycas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30840" y="411480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5760" y="41148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7960" y="4419360"/>
              <a:ext cx="175284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111111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4114800"/>
              <a:ext cx="12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1-n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057400" y="5029200"/>
            <a:ext cx="5943600" cy="762120"/>
            <a:chOff x="2057400" y="5029200"/>
            <a:chExt cx="5943600" cy="762120"/>
          </a:xfrm>
        </p:grpSpPr>
        <p:sp>
          <p:nvSpPr>
            <p:cNvPr id="410" name=""/>
            <p:cNvSpPr/>
            <p:nvPr/>
          </p:nvSpPr>
          <p:spPr>
            <a:xfrm>
              <a:off x="2057400" y="5334120"/>
              <a:ext cx="259092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net pref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0800" y="5334120"/>
              <a:ext cx="160020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nycast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56680" y="50292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4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45760" y="50292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48320" y="5334120"/>
              <a:ext cx="1752480" cy="457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1111011..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90400" y="50292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7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982080" y="5257800"/>
            <a:ext cx="9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87480" y="431172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cast is relatively simple to deploy in existing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ors are finding new uses for it in different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some changes as v6 comes a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tion resources: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www.net.cmu.edu/pres/anyc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vin Miller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kcm@cm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4" idx="0"/>
            <a:endCxn id="425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4" idx="6"/>
            <a:endCxn id="428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80200" y="3530520"/>
            <a:ext cx="3044520" cy="46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rc: 2002:8002:ff1f: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86320" y="3994200"/>
            <a:ext cx="3035520" cy="46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st: 2001:4e8:4:200: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0800000">
            <a:off x="5018040" y="3525480"/>
            <a:ext cx="370080" cy="93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Pv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2937960" y="2898360"/>
            <a:ext cx="2071800" cy="110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8920" y="4533840"/>
            <a:ext cx="53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s generate native IPv6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9" name=""/>
          <p:cNvCxnSpPr>
            <a:stCxn id="437" idx="0"/>
            <a:endCxn id="438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437" idx="6"/>
            <a:endCxn id="441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533480" y="2927160"/>
            <a:ext cx="46692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9080" y="4533840"/>
            <a:ext cx="73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Router encapsulates packet to send over v4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External v4 address dictates v6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014800" y="2122200"/>
            <a:ext cx="3407040" cy="2338560"/>
            <a:chOff x="5014800" y="2122200"/>
            <a:chExt cx="3407040" cy="2338560"/>
          </a:xfrm>
        </p:grpSpPr>
        <p:sp>
          <p:nvSpPr>
            <p:cNvPr id="446" name=""/>
            <p:cNvSpPr/>
            <p:nvPr/>
          </p:nvSpPr>
          <p:spPr>
            <a:xfrm>
              <a:off x="5380200" y="353052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86320" y="399420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0800000">
              <a:off x="5018040" y="352548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76960" y="259380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92.88.99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83080" y="305748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5014800" y="212220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381640" y="212400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ly equal-cost multi-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57280" y="2448000"/>
          <a:ext cx="783108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448000"/>
                    <a:ext cx="78310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Cloud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014800" y="1684080"/>
            <a:ext cx="3407040" cy="2338560"/>
            <a:chOff x="5014800" y="1684080"/>
            <a:chExt cx="3407040" cy="2338560"/>
          </a:xfrm>
        </p:grpSpPr>
        <p:sp>
          <p:nvSpPr>
            <p:cNvPr id="459" name=""/>
            <p:cNvSpPr/>
            <p:nvPr/>
          </p:nvSpPr>
          <p:spPr>
            <a:xfrm>
              <a:off x="5380200" y="309240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86320" y="355608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5018040" y="308736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76960" y="215568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92.88.99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83080" y="261936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0800000">
              <a:off x="5014800" y="168408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81640" y="168588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690480" y="1590840"/>
            <a:ext cx="4222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delivered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relay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 removes 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, forwards into 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528800" y="3103560"/>
            <a:ext cx="490680" cy="9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Cloud"/>
          <p:cNvSpPr/>
          <p:nvPr/>
        </p:nvSpPr>
        <p:spPr>
          <a:xfrm>
            <a:off x="2057400" y="4419720"/>
            <a:ext cx="3429000" cy="1885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48006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8480" y="4114800"/>
            <a:ext cx="68580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33720" y="5562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v6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014800" y="1684080"/>
            <a:ext cx="3407040" cy="2338560"/>
            <a:chOff x="5014800" y="1684080"/>
            <a:chExt cx="3407040" cy="2338560"/>
          </a:xfrm>
        </p:grpSpPr>
        <p:sp>
          <p:nvSpPr>
            <p:cNvPr id="474" name=""/>
            <p:cNvSpPr/>
            <p:nvPr/>
          </p:nvSpPr>
          <p:spPr>
            <a:xfrm>
              <a:off x="5380200" y="309240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86320" y="355608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5018040" y="308736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76960" y="215568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83080" y="261936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5014800" y="168408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81640" y="168588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[RR uniqu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690480" y="1590840"/>
            <a:ext cx="4222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s advert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2::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router forward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pseudo-interface; v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based on v6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528800" y="3103560"/>
            <a:ext cx="490680" cy="9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to4 Routers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Cloud"/>
          <p:cNvSpPr/>
          <p:nvPr/>
        </p:nvSpPr>
        <p:spPr>
          <a:xfrm>
            <a:off x="868320" y="1550880"/>
            <a:ext cx="3429000" cy="1886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30440" y="2617920"/>
            <a:ext cx="53316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77800" y="1932120"/>
            <a:ext cx="533520" cy="533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5" idx="0"/>
            <a:endCxn id="486" idx="5"/>
          </p:cNvCxnSpPr>
          <p:nvPr/>
        </p:nvCxnSpPr>
        <p:spPr>
          <a:xfrm flipH="1" flipV="1" rot="5400000">
            <a:off x="1799640" y="2484000"/>
            <a:ext cx="231120" cy="37080"/>
          </a:xfrm>
          <a:prstGeom prst="curvedConnector5">
            <a:avLst>
              <a:gd name="adj1" fmla="val 33073"/>
              <a:gd name="adj2" fmla="val 50000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6"/>
            <a:endCxn id="489" idx="2"/>
          </p:cNvCxnSpPr>
          <p:nvPr/>
        </p:nvCxnSpPr>
        <p:spPr>
          <a:xfrm flipV="1">
            <a:off x="2163240" y="2790360"/>
            <a:ext cx="1661400" cy="94320"/>
          </a:xfrm>
          <a:prstGeom prst="curvedConnector5">
            <a:avLst>
              <a:gd name="adj1" fmla="val 50000"/>
              <a:gd name="adj2" fmla="val 4980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1911240" y="17794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ve IPv6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6to4 Pre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24280" y="2448000"/>
            <a:ext cx="685800" cy="6858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to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4533480" y="2927160"/>
            <a:ext cx="46692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19080" y="4533840"/>
            <a:ext cx="73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to4 Router removes v4 header; forwards v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014800" y="2122200"/>
            <a:ext cx="3407040" cy="2338560"/>
            <a:chOff x="5014800" y="2122200"/>
            <a:chExt cx="3407040" cy="2338560"/>
          </a:xfrm>
        </p:grpSpPr>
        <p:sp>
          <p:nvSpPr>
            <p:cNvPr id="494" name=""/>
            <p:cNvSpPr/>
            <p:nvPr/>
          </p:nvSpPr>
          <p:spPr>
            <a:xfrm>
              <a:off x="5380200" y="3530520"/>
              <a:ext cx="3039840" cy="466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2001:4e8:4:200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86320" y="3994200"/>
              <a:ext cx="3035520" cy="466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2002:8002:ff1f::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0800000">
              <a:off x="5018040" y="3525480"/>
              <a:ext cx="370080" cy="933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6960" y="2593800"/>
              <a:ext cx="304488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st: 128.2.255.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83080" y="3057480"/>
              <a:ext cx="303552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ocol: 4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5014800" y="2122200"/>
              <a:ext cx="370080" cy="140004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IPv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81640" y="2124000"/>
              <a:ext cx="3035160" cy="4669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rc: [RR unique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dentifying Specific Node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 Root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hostname.bind @f.root-servers.net chaos t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 Root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id.server @k.root-servers.net chaos t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ORG TLD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whoareyou.ultradns.net @tld1.ultradns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g whoareyou.ultradns.net @tld2.ultradns.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nycast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764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tial packets may be delivered to different anycast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514600"/>
          <a:ext cx="765180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6518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16:04Z</dcterms:created>
  <dc:creator>Kevin Miller</dc:creator>
  <dc:description/>
  <dc:language>en-US</dc:language>
  <cp:lastModifiedBy>Kevin Miller</cp:lastModifiedBy>
  <dcterms:modified xsi:type="dcterms:W3CDTF">2003-10-19T18:41:24Z</dcterms:modified>
  <cp:revision>50</cp:revision>
  <dc:subject/>
  <dc:title>Deploying IP Anycast</dc:title>
</cp:coreProperties>
</file>